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70A-9605-4C9F-A7DB-595E8617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EFF-133A-46F2-A19B-A9A5A279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31C-7CAF-4E9B-8006-5D33E5C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528-B7E6-47FF-AD7C-6D958F22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E39-0BB2-4375-B987-A5B6D69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A85-D16E-453B-88C0-D6DE9C0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A54-1344-458F-B884-8F62641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D42-7B99-490E-A6B8-D3FC25A9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5D5-879B-46B5-98D9-C7297F3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DFB-B9A8-4855-B56C-B3D6063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810-6CD3-40C9-A5D8-8B1756D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8B1-71DD-4D92-A84D-504136A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16C-06C2-4734-B3EB-12DE03322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nage Awards and Decoration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6361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nage Awards and Dec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a requirem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awards and decoratio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 600-8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3000" y="6324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guideline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dentified the purpose of Army Awa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 Service Medals and Ribb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Medals and their required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9320" y="6491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dentified requirement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 during mo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7856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5T16:18:56Z</dcterms:created>
  <dc:creator>ADG</dc:creator>
  <dc:description/>
  <dc:language>en-US</dc:language>
  <cp:lastModifiedBy>Administrator</cp:lastModifiedBy>
  <cp:lastPrinted>1998-04-13T17:20:16Z</cp:lastPrinted>
  <dcterms:modified xsi:type="dcterms:W3CDTF">2005-07-08T12:10:17Z</dcterms:modified>
  <cp:revision>8</cp:revision>
  <dc:subject/>
  <dc:title>Assemble SIDP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